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5A28-1346-40A9-B074-037B0F977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47AD-E38F-4B19-BD72-2F202A2B1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6C47-8736-4F49-8E7F-C9AF9C3D5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B074-5E2E-424F-8263-13E74464E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C380E-7C05-4267-A339-0D89EE4C6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D82DC-D350-4523-B47D-7280A0A4D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E1973-507C-4078-B928-34810A5B9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77643-7D50-4A0E-8958-9D2484A3C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45506-C206-409A-B982-6F3C1B8FD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478C8-7624-4091-A956-0F4BED9C9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C8199-7526-4742-BFD7-17DEDC1E4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349F-89F1-42D1-B810-A5AD08DBC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8427D-B216-4F9F-AEF0-CFB0AA03F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AF11D-C9FE-4CE7-95C0-BF7953F7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0C78B-CE9E-407F-A8FC-EA351E294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095C0-2C42-4F7A-A542-EFDC6E9CE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B8BA6-2C2F-43BB-A6DC-D4170839D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C7B31-E9CB-4905-BF56-E4D173D3E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4338D-3600-4F73-90D6-43A969F0E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7146B-D5CE-42C7-8942-A760B03F3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F7C45-745C-4361-B5FE-CEF1AE1C3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81A1E-5037-41E6-9DB4-6FCD757E0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A702-BC8F-4983-801D-6FC605D06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DE6E9-E1F0-4DFB-881E-B52148A1A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16023-A9A5-4160-BC28-63CC0BC5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84BF4-03CB-47EB-BC5E-94D7FB3C7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71E4A-013D-4DD3-A609-53AB88E22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99BC3-B379-4977-B26C-867CAA8B8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DD032-8D82-493B-A90C-61498B056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01832-CE5A-43B7-AEB7-468648DE7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ECC2D-F60E-4A50-8DD2-51FCB4944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E8930-B411-4F55-A4C2-19E6D6261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B46B9-18E4-4639-BB8D-92A9AE1CE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18ED-D7A8-40C4-8EE3-9844B0E95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B9D74-6E78-42DC-A6DD-CEF7E9670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E14BE-4295-40C5-93AE-EA9C7A845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262E6-E9B5-46EA-928E-6D6A918D7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9C9B5-7C80-41D8-8466-E6D7F98D5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820A1-43FB-4AF0-A80F-A8DF6BED9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6A8BC-E81B-46A5-BBB3-2FE9F3F6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B4C12-C406-414D-8434-C80F9FA9C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1A99A-9090-4078-9970-66C7A3912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E94EC-68F7-4E3E-BD9A-8D537657C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CDE942-25F2-473F-B599-F968E2C18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C99D-A1BF-4F03-8358-D10DD7D40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E04A1-1AA6-47B0-BF41-FC535D97C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AF59D-A8C9-405C-8628-05ED1C2C2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FE1BA-8113-4A37-A72E-D5BB7A30E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01FE39-D488-4590-8913-BCC650E30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C8E983-2083-45C7-9782-4B32A4563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34F8A-39AF-4D61-ABD7-615E6243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3B689-E00D-4049-9D70-9D5635B15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2D5A5-9FD7-4B70-807B-9465CEAE0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F5D03E-9897-487D-B6F0-481D65091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562279-617C-4829-8928-9B8A1325B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51B4-84DF-47D9-B09B-61CCB9594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31D97-B79A-4B35-B386-938B16430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8FF6-AB25-4570-8AE3-96ED19DC7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5361-771F-42D5-8275-8F76CC95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FBEB-27D6-417A-942A-CF374645B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DCCE7-DBA6-47D1-8C4F-7CC08A8B708C}" type="slidenum">
              <a:rPr b="0" lang="en-AU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83CF1-3FEB-4D64-975A-F76B1C8DA5B5}" type="slidenum">
              <a:rPr b="0" lang="en-AU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01FFF-EF01-469D-A848-5B9C5E4D942B}" type="slidenum">
              <a:rPr b="0" lang="en-AU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F73A3-4815-483B-920C-F306FC5C38D9}" type="slidenum">
              <a:rPr b="0" lang="en-AU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C18E3-335F-4728-9013-5984183640E0}" type="slidenum">
              <a:rPr b="0" lang="en-AU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hree%20Way%20Confs/Team%201/proforma%20conferences%20prep.doc" TargetMode="External"/><Relationship Id="rId2" Type="http://schemas.openxmlformats.org/officeDocument/2006/relationships/hyperlink" Target="file:///Three%20Way%20Confs/Team%202/Self%20Reflec%20for%20learn%20journal%20-%20sem%201%20%202.doc" TargetMode="External"/><Relationship Id="rId3" Type="http://schemas.openxmlformats.org/officeDocument/2006/relationships/hyperlink" Target="file:///Three%20Way%20Confs/Team%202/Maths%20and%20English%20Ach%20impr.doc" TargetMode="External"/><Relationship Id="rId4" Type="http://schemas.openxmlformats.org/officeDocument/2006/relationships/hyperlink" Target="file:///Three%20Way%20Confs/Team%202/Interview%20Reflec%20tags.doc" TargetMode="External"/><Relationship Id="rId5" Type="http://schemas.openxmlformats.org/officeDocument/2006/relationships/hyperlink" Target="file:///Three%20Way%20Confs/Team%202/My%203-way%20conference%20notes.doc" TargetMode="External"/><Relationship Id="rId6" Type="http://schemas.openxmlformats.org/officeDocument/2006/relationships/hyperlink" Target="file:///Three%20Way%20Confs/Team%202/My%203-way%20conference%20notes.doc" TargetMode="External"/><Relationship Id="rId7" Type="http://schemas.openxmlformats.org/officeDocument/2006/relationships/hyperlink" Target="file:///Three%20Way%20Confs/Team%203/Personal%20Learning.doc" TargetMode="External"/><Relationship Id="rId8" Type="http://schemas.openxmlformats.org/officeDocument/2006/relationships/hyperlink" Target="file:///Three%20Way%20Confs/Team%203/Interpersonal%20development.doc" TargetMode="External"/><Relationship Id="rId9" Type="http://schemas.openxmlformats.org/officeDocument/2006/relationships/hyperlink" Target="file:///Three%20Way%20Confs/Team%203/Achievements%20team%203.doc" TargetMode="External"/><Relationship Id="rId10" Type="http://schemas.openxmlformats.org/officeDocument/2006/relationships/hyperlink" Target="file:///Three%20Way%20Confs/Team%203/i%20want%20you%20to%20notice%20t3.doc" TargetMode="External"/><Relationship Id="rId11" Type="http://schemas.openxmlformats.org/officeDocument/2006/relationships/hyperlink" Target="file:///Three%20Way%20Confs/Team%204/3%20Way%20Conference%20agenda.doc" TargetMode="External"/><Relationship Id="rId12" Type="http://schemas.openxmlformats.org/officeDocument/2006/relationships/hyperlink" Target="file:///Three%20Way%20Confs/Team%204/ID%20%20Buil%20Soc%20Rel%20%202.75.doc" TargetMode="External"/><Relationship Id="rId13" Type="http://schemas.openxmlformats.org/officeDocument/2006/relationships/hyperlink" Target="file:///Three%20Way%20Confs/Team%204/ID%20%20Working%20in%20teams%20%202.75.doc" TargetMode="External"/><Relationship Id="rId14" Type="http://schemas.openxmlformats.org/officeDocument/2006/relationships/image" Target="../media/image4.pn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696464"/>
                </a:solidFill>
                <a:latin typeface="Perpetua"/>
              </a:rPr>
              <a:t>Boroondara Park Primary Schoo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Franklin Gothic Book"/>
              </a:rPr>
              <a:t>Three Way Conference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30" name="Picture 4" descr="BPPS logo.BMP"/>
          <p:cNvPicPr/>
          <p:nvPr/>
        </p:nvPicPr>
        <p:blipFill>
          <a:blip r:embed="rId1"/>
          <a:stretch/>
        </p:blipFill>
        <p:spPr>
          <a:xfrm>
            <a:off x="3786120" y="4572000"/>
            <a:ext cx="166860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696464"/>
                </a:solidFill>
                <a:latin typeface="Franklin Gothic Book"/>
              </a:rPr>
              <a:t>Three Way Conference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Introduced in 2005 ( I&amp;E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Apollo Parkways Primary Schoo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Initially grades 3-6 &amp; options for 1-1 interview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Introduced  the concept to the communit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Sought feedback ( parents and students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Timing (end Term 2- early Term 3) Pre or post written reports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3" name="Picture 3" descr="BPPS logo.BMP"/>
          <p:cNvPicPr/>
          <p:nvPr/>
        </p:nvPicPr>
        <p:blipFill>
          <a:blip r:embed="rId1"/>
          <a:stretch/>
        </p:blipFill>
        <p:spPr>
          <a:xfrm>
            <a:off x="7286760" y="428760"/>
            <a:ext cx="11620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696464"/>
                </a:solidFill>
                <a:latin typeface="Franklin Gothic Book"/>
              </a:rPr>
              <a:t>Three Way Conference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ndalus"/>
                <a:ea typeface="Andalus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Perpetua"/>
              </a:rPr>
              <a:t>Student takes responsibility for their own learn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Perpetua"/>
              </a:rPr>
              <a:t>Self reflection and evalu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Perpetua"/>
              </a:rPr>
              <a:t>Goal setting and shar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Perpetua"/>
              </a:rPr>
              <a:t>Creates a partnership (school-home)- open and honest dialogue. Everyone hears the same information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Perpetua"/>
              </a:rPr>
              <a:t>Develops organisational and oral communication skill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Perpetua"/>
              </a:rPr>
              <a:t>Increases self confidenc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Perpetua"/>
              </a:rPr>
              <a:t>Discuss behaviou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Perpetua"/>
              </a:rPr>
              <a:t>Set future direction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Perpetua"/>
              </a:rPr>
              <a:t>Be the centre of the parent’s undivided attention – focused on learning need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Perpetua"/>
              </a:rPr>
              <a:t>Celebrate success!</a:t>
            </a:r>
            <a:br>
              <a:rPr sz="700"/>
            </a:br>
            <a:r>
              <a:rPr b="0" lang="en-AU" sz="7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7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endParaRPr b="0" lang="en-US" sz="7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6" name="Picture 3" descr="BPPS logo.BMP"/>
          <p:cNvPicPr/>
          <p:nvPr/>
        </p:nvPicPr>
        <p:blipFill>
          <a:blip r:embed="rId1"/>
          <a:stretch/>
        </p:blipFill>
        <p:spPr>
          <a:xfrm>
            <a:off x="7286760" y="285840"/>
            <a:ext cx="11620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696464"/>
                </a:solidFill>
                <a:latin typeface="Franklin Gothic Book"/>
              </a:rPr>
              <a:t>Three Way Conference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09880" indent="-209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ndalus"/>
                <a:ea typeface="Andalus"/>
              </a:rPr>
              <a:t>What?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09880" indent="-209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Perpetua"/>
              </a:rPr>
              <a:t>Student :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09880" indent="-209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Perpetua"/>
              </a:rPr>
              <a:t>Collects work that reflects what they have  learned (good, not so good and unique)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09880" indent="-209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Perpetua"/>
              </a:rPr>
              <a:t>Evaluates own  strengths and weakness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09880" indent="-209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09880" indent="-209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Perpetua"/>
              </a:rPr>
              <a:t>Discusses previous goals and sets new ones in Maths, English, Personal Learning and Interpersonal Development.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09880" indent="-209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Perpetua"/>
              </a:rPr>
              <a:t>Follows an agend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09880" indent="-209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09880" indent="-209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Perpetua"/>
              </a:rPr>
              <a:t>Facilitates conference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09880" indent="-209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Perpetua"/>
            </a:endParaRPr>
          </a:p>
          <a:p>
            <a:pPr marL="209880" indent="-209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Perpetua"/>
            </a:endParaRPr>
          </a:p>
          <a:p>
            <a:pPr marL="209880" indent="-209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Perpetua"/>
              </a:rPr>
              <a:t>	</a:t>
            </a: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Perpetua"/>
            </a:endParaRPr>
          </a:p>
          <a:p>
            <a:pPr marL="209880" indent="-209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Perpetua"/>
            </a:endParaRPr>
          </a:p>
          <a:p>
            <a:pPr marL="209880" indent="-209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7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Perpetua"/>
            </a:endParaRPr>
          </a:p>
          <a:p>
            <a:pPr marL="209880" indent="-209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endParaRPr b="0" lang="en-US" sz="700" spc="-1" strike="noStrike">
              <a:solidFill>
                <a:srgbClr val="000000"/>
              </a:solidFill>
              <a:latin typeface="Perpetua"/>
            </a:endParaRPr>
          </a:p>
          <a:p>
            <a:pPr marL="209880" indent="-209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9" name="Picture 3" descr="BPPS logo.BMP"/>
          <p:cNvPicPr/>
          <p:nvPr/>
        </p:nvPicPr>
        <p:blipFill>
          <a:blip r:embed="rId1"/>
          <a:stretch/>
        </p:blipFill>
        <p:spPr>
          <a:xfrm>
            <a:off x="7072200" y="357120"/>
            <a:ext cx="11620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8588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696464"/>
                </a:solidFill>
                <a:latin typeface="Franklin Gothic Book"/>
              </a:rPr>
              <a:t>Three Way Conference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14200" y="121392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04480" indent="-2044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ndalus"/>
                <a:ea typeface="Andalus"/>
              </a:rPr>
              <a:t>Who?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04480" indent="-2044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Perpetua"/>
              </a:rPr>
              <a:t>Parent :</a:t>
            </a: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Perpetua"/>
              </a:rPr>
              <a:t>Be a listener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04480" indent="-2044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Perpetua"/>
              </a:rPr>
              <a:t>Talk to student about work presented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04480" indent="-2044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Perpetua"/>
              </a:rPr>
              <a:t>Ask questions;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04480" indent="-2044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Perpetua"/>
              </a:rPr>
              <a:t>What can you tell me about this piece of work?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04480" indent="-2044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Perpetua"/>
              </a:rPr>
              <a:t>What did you have to do? Think about?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04480" indent="-2044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Perpetua"/>
              </a:rPr>
              <a:t>What skills did you have to use?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04480" indent="-2044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Perpetua"/>
              </a:rPr>
              <a:t>What would you do next time to improve your work?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04480" indent="-2044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Perpetua"/>
              </a:rPr>
              <a:t>What goals have you set? How are they going?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04480" indent="-2044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Perpetua"/>
              </a:rPr>
              <a:t>How can I help you meet your goals?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04480" indent="-2044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Perpetua"/>
              </a:rPr>
              <a:t>Teacher :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04480" indent="-2044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Perpetua"/>
              </a:rPr>
              <a:t>Help student to prepare portfolio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04480" indent="-2044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Perpetua"/>
              </a:rPr>
              <a:t>Engage with student to ensure goals are understood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04480" indent="-2044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Perpetua"/>
              </a:rPr>
              <a:t>During the conference ; guide, prompt, ask leading questions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04480" indent="-2044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Perpetua"/>
              </a:rPr>
              <a:t>Student : </a:t>
            </a: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Perpetua"/>
              </a:rPr>
              <a:t>Facilitates- introduces parents, explain and discuss their portfolio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04480" indent="-2044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Perpetua"/>
              </a:rPr>
              <a:t>Seek questions from parents/teacher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04480" indent="-2044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04480" indent="-2044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Perpetua"/>
            </a:endParaRPr>
          </a:p>
          <a:p>
            <a:pPr marL="204480" indent="-2044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Perpetua"/>
            </a:endParaRPr>
          </a:p>
          <a:p>
            <a:pPr marL="204480" indent="-2044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Perpetua"/>
              </a:rPr>
              <a:t>	</a:t>
            </a: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Perpetua"/>
            </a:endParaRPr>
          </a:p>
          <a:p>
            <a:pPr marL="204480" indent="-2044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Perpetua"/>
            </a:endParaRPr>
          </a:p>
          <a:p>
            <a:pPr marL="204480" indent="-2044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7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Perpetua"/>
            </a:endParaRPr>
          </a:p>
          <a:p>
            <a:pPr marL="204480" indent="-2044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endParaRPr b="0" lang="en-US" sz="700" spc="-1" strike="noStrike">
              <a:solidFill>
                <a:srgbClr val="000000"/>
              </a:solidFill>
              <a:latin typeface="Perpetua"/>
            </a:endParaRPr>
          </a:p>
          <a:p>
            <a:pPr marL="204480" indent="-2044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2" name="Picture 3" descr="BPPS logo.BMP"/>
          <p:cNvPicPr/>
          <p:nvPr/>
        </p:nvPicPr>
        <p:blipFill>
          <a:blip r:embed="rId1"/>
          <a:stretch/>
        </p:blipFill>
        <p:spPr>
          <a:xfrm>
            <a:off x="7429680" y="214200"/>
            <a:ext cx="11617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696464"/>
                </a:solidFill>
                <a:latin typeface="Franklin Gothic Book"/>
              </a:rPr>
              <a:t>Three Way Conferenc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 u="sng">
                <a:solidFill>
                  <a:srgbClr val="cc9900"/>
                </a:solidFill>
                <a:uFillTx/>
                <a:latin typeface="Perpetua"/>
                <a:hlinkClick r:id="rId1"/>
              </a:rPr>
              <a:t>Team 1 - Prep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Perpetua"/>
              </a:rPr>
              <a:t>Team 2 – Grade 1/2</a:t>
            </a:r>
            <a:br>
              <a:rPr sz="2200"/>
            </a:br>
            <a:r>
              <a:rPr b="0" lang="en-AU" sz="2200" spc="-1" strike="noStrike" u="sng">
                <a:solidFill>
                  <a:srgbClr val="cc9900"/>
                </a:solidFill>
                <a:uFillTx/>
                <a:latin typeface="Perpetua"/>
                <a:hlinkClick r:id="rId2"/>
              </a:rPr>
              <a:t>Thinking about my Learning</a:t>
            </a:r>
            <a:r>
              <a:rPr b="0" lang="en-AU" sz="22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0" lang="en-AU" sz="2200" spc="-1" strike="noStrike" u="sng">
                <a:solidFill>
                  <a:srgbClr val="cc9900"/>
                </a:solidFill>
                <a:uFillTx/>
                <a:latin typeface="Perpetua"/>
                <a:hlinkClick r:id="rId3"/>
              </a:rPr>
              <a:t>Achievements/improvements, </a:t>
            </a:r>
            <a:r>
              <a:rPr b="0" lang="en-AU" sz="2200" spc="-1" strike="noStrike" u="sng">
                <a:solidFill>
                  <a:srgbClr val="cc9900"/>
                </a:solidFill>
                <a:uFillTx/>
                <a:latin typeface="Perpetua"/>
                <a:hlinkClick r:id="rId4"/>
              </a:rPr>
              <a:t>Tags</a:t>
            </a:r>
            <a:r>
              <a:rPr b="0" lang="en-AU" sz="22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0" lang="en-AU" sz="2200" spc="-1" strike="noStrike" u="sng">
                <a:solidFill>
                  <a:srgbClr val="cc9900"/>
                </a:solidFill>
                <a:uFillTx/>
                <a:latin typeface="Perpetua"/>
                <a:hlinkClick r:id="rId5"/>
              </a:rPr>
              <a:t>T</a:t>
            </a:r>
            <a:r>
              <a:rPr b="0" lang="en-AU" sz="2200" spc="-1" strike="noStrike" u="sng">
                <a:solidFill>
                  <a:srgbClr val="cc9900"/>
                </a:solidFill>
                <a:uFillTx/>
                <a:latin typeface="Perpetua"/>
                <a:hlinkClick r:id="rId6"/>
              </a:rPr>
              <a:t>ag explanations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Perpetua"/>
              </a:rPr>
              <a:t>Team 3 – Grade ¾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AU" sz="2200" spc="-1" strike="noStrike" u="sng">
                <a:solidFill>
                  <a:srgbClr val="cc9900"/>
                </a:solidFill>
                <a:uFillTx/>
                <a:latin typeface="Perpetua"/>
                <a:hlinkClick r:id="rId7"/>
              </a:rPr>
              <a:t>Personal Learning, </a:t>
            </a:r>
            <a:r>
              <a:rPr b="0" lang="en-AU" sz="2200" spc="-1" strike="noStrike" u="sng">
                <a:solidFill>
                  <a:srgbClr val="cc9900"/>
                </a:solidFill>
                <a:uFillTx/>
                <a:latin typeface="Perpetua"/>
                <a:hlinkClick r:id="rId8"/>
              </a:rPr>
              <a:t>Interpersonal development, </a:t>
            </a:r>
            <a:r>
              <a:rPr b="0" lang="en-AU" sz="2200" spc="-1" strike="noStrike" u="sng">
                <a:solidFill>
                  <a:srgbClr val="cc9900"/>
                </a:solidFill>
                <a:uFillTx/>
                <a:latin typeface="Perpetua"/>
                <a:hlinkClick r:id="rId9"/>
              </a:rPr>
              <a:t>Achievements, Improvements</a:t>
            </a:r>
            <a:r>
              <a:rPr b="0" lang="en-AU" sz="22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0" lang="en-AU" sz="2200" spc="-1" strike="noStrike" u="sng">
                <a:solidFill>
                  <a:srgbClr val="cc9900"/>
                </a:solidFill>
                <a:uFillTx/>
                <a:latin typeface="Perpetua"/>
                <a:hlinkClick r:id="rId10"/>
              </a:rPr>
              <a:t>Tags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Perpetua"/>
              </a:rPr>
              <a:t>Team 4 – Grade 5/6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AU" sz="2200" spc="-1" strike="noStrike" u="sng">
                <a:solidFill>
                  <a:srgbClr val="cc9900"/>
                </a:solidFill>
                <a:uFillTx/>
                <a:latin typeface="Perpetua"/>
                <a:hlinkClick r:id="rId11"/>
              </a:rPr>
              <a:t>Agenda, </a:t>
            </a:r>
            <a:r>
              <a:rPr b="0" lang="en-AU" sz="2200" spc="-1" strike="noStrike" u="sng">
                <a:solidFill>
                  <a:srgbClr val="cc9900"/>
                </a:solidFill>
                <a:uFillTx/>
                <a:latin typeface="Perpetua"/>
                <a:hlinkClick r:id="rId12"/>
              </a:rPr>
              <a:t>ID- Building Social Relationships , </a:t>
            </a:r>
            <a:r>
              <a:rPr b="0" lang="en-AU" sz="2200" spc="-1" strike="noStrike" u="sng">
                <a:solidFill>
                  <a:srgbClr val="cc9900"/>
                </a:solidFill>
                <a:uFillTx/>
                <a:latin typeface="Perpetua"/>
                <a:hlinkClick r:id="rId13"/>
              </a:rPr>
              <a:t>ID- Working in Teams, </a:t>
            </a:r>
            <a:r>
              <a:rPr b="0" lang="en-AU" sz="2200" spc="-1" strike="noStrike">
                <a:solidFill>
                  <a:srgbClr val="000000"/>
                </a:solidFill>
                <a:latin typeface="Perpetua"/>
              </a:rPr>
              <a:t>PL- Managing PL, PL- The individual Learner, Improvements, Achievements, Tags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5" name="Picture 3" descr="BPPS logo.BMP"/>
          <p:cNvPicPr/>
          <p:nvPr/>
        </p:nvPicPr>
        <p:blipFill>
          <a:blip r:embed="rId14"/>
          <a:stretch/>
        </p:blipFill>
        <p:spPr>
          <a:xfrm>
            <a:off x="7572240" y="285840"/>
            <a:ext cx="11620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1T01:29:12Z</dcterms:created>
  <dc:creator>User</dc:creator>
  <dc:description/>
  <dc:language>en-US</dc:language>
  <cp:lastModifiedBy>08621331</cp:lastModifiedBy>
  <dcterms:modified xsi:type="dcterms:W3CDTF">2009-09-03T04:01:46Z</dcterms:modified>
  <cp:revision>13</cp:revision>
  <dc:subject/>
  <dc:title>Three Way Conferences</dc:title>
</cp:coreProperties>
</file>